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EFF-93FE-440F-858C-D1E8156E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F4A-AA9D-46B9-B6DB-39B7268C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5DA-8EF3-4DEC-8992-7F567B8B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D90-170D-4246-BAA4-C5A2132C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1EC-38AA-4460-B814-9BBF4079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F4D-7399-47F9-B32A-ACCD5091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804-AAF1-4F07-9119-3AAA9673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08B-B0BC-47A2-B8B8-07947C3A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141-60AE-4A50-B7DA-A91B247E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EB4-7D0A-4BF6-B115-8C16F35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679-469D-49E4-B01D-45B59C1D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41B-8F21-4104-9D26-7CABC4DD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5702-8C5D-4B63-B432-EFE6FAFBF6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Goi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Users\ashawky\Desktop\mcst logo.jpg"/>
          <p:cNvPicPr/>
          <p:nvPr/>
        </p:nvPicPr>
        <p:blipFill>
          <a:blip r:embed="rId1"/>
          <a:stretch/>
        </p:blipFill>
        <p:spPr>
          <a:xfrm>
            <a:off x="5886360" y="765000"/>
            <a:ext cx="262908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c. Nodular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picture: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symmetrical enlar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ariable: firm areas and soft cystic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ut surface is nod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ultiple nodules, some formed of hyperplastic acini and others show acini filled with collo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nodules are surrounded by fibrous 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Complications of simple goit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. Pressure effects: on esophagus, trachea, and recurrent laryngeal n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. Secondary hyperthyroidism due to Hyperfunctioning nodules (toxic nodular goiter). No exophthal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3. Malignancy in 2% of cases: follicular carcin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840" y="2571480"/>
            <a:ext cx="271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admin\Desktop\goiter.jpg"/>
          <p:cNvPicPr/>
          <p:nvPr/>
        </p:nvPicPr>
        <p:blipFill>
          <a:blip r:embed="rId1"/>
          <a:stretch/>
        </p:blipFill>
        <p:spPr>
          <a:xfrm>
            <a:off x="3857760" y="714240"/>
            <a:ext cx="45003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840" y="257148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admin\Desktop\untitled.bmp"/>
          <p:cNvPicPr/>
          <p:nvPr/>
        </p:nvPicPr>
        <p:blipFill>
          <a:blip r:embed="rId1"/>
          <a:stretch/>
        </p:blipFill>
        <p:spPr>
          <a:xfrm>
            <a:off x="4000680" y="571680"/>
            <a:ext cx="4265280" cy="56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2428560"/>
            <a:ext cx="31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admin\Desktop\230px-Thyroid,_Diffuse_Hyperplasia.jpg"/>
          <p:cNvPicPr/>
          <p:nvPr/>
        </p:nvPicPr>
        <p:blipFill>
          <a:blip r:embed="rId1"/>
          <a:stretch/>
        </p:blipFill>
        <p:spPr>
          <a:xfrm>
            <a:off x="4429080" y="285840"/>
            <a:ext cx="4143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TOXIC 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Two types;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Primary toxic goiter (exophthalmoic goiter or grave’s dise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Secondary toxic goiter: toxic nodular goiter or toxic ade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8569080" cy="24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PRIMARY TOXIC GOITER EXOPHTHALMIC GOITER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(GRAVE’S DISEAS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981000"/>
            <a:ext cx="8362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rgan specific autoimmune disease due to auto-antibodies (LATS; long acting thyroid stimulating) stimulating TSH receptors leads to diffuse hyperplasia and hyperfunctioning acini with excess thyroid hormone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Pathologica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1. Thyro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/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mmetrically  enlarged, firm, with dark red “vascular” cut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M/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hyperplastic acini lined by columnar cells and filled with faintly stained colloid with peripheral scalloping. The stroma is highly vascular and shows lymphocytic infil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Definition: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Non-inflammatory, non-neoplastic enlargement of the thyroid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Class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Simple (non-toxic) go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oxic go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s’ disease :Diffusely enlarged gland , Can weigh up to 200 g ,Richly vascula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http://radiology.uchc.edu/eatlas/images/Endo/6124b.gif"/>
          <p:cNvPicPr/>
          <p:nvPr/>
        </p:nvPicPr>
        <p:blipFill>
          <a:blip r:embed="rId1"/>
          <a:stretch/>
        </p:blipFill>
        <p:spPr>
          <a:xfrm>
            <a:off x="971640" y="1773360"/>
            <a:ext cx="7777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ic 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6408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c goit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loping of colloid inside thyroid follic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ized follicles , lymphocytic infiltration,hypervascularit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056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2. Exophthalmos:</a:t>
            </a:r>
            <a:r>
              <a:rPr b="1" lang="en-US" sz="3200" spc="-1" strike="noStrike">
                <a:solidFill>
                  <a:srgbClr val="262673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ward protrusion of the eye globe due to edema and degeneration of the retro-orbital muscles “special auto-antibodies react with the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3. Diffuse lymphoid hyperplasi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 thymus, tonsil, spleen, g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4. Left ventricular hypertrophy “thyrotoxic cardiomyopath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5. Pre-tibial myxed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6. Increased basal metaboli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phthalmos associating Graves’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7345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phthalmos associating toxic 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13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249192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SECONDARY TOXIC 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A. Toxic nodular goit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ng simple nodular go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use, nodular enlargement of the thyroid. Some nodules show hyperfunctioning acini. Other acini are ina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B. Toxic adeno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ng thyroid aden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Hyperfunctioning neoplastic acini are like those of grave’s disease. The remaining thyroid tissue is inactive. Thyroid hormone secretion is autono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  <a:ea typeface="Calibri"/>
              </a:rPr>
              <a:t>THYROIDIT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6840" y="620640"/>
            <a:ext cx="8435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Inflammation of the thyro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Typ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Hashimoto’s thyroidit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Subacute granulomatous thyroiditis (DeQuervain thyroidit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Reidel’s (fibrous) thyroid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SIMPLE (NON-TOXIC) GO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1341000"/>
            <a:ext cx="8572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largement of the thyroid without toxic manife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Ca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75d1"/>
                </a:solidFill>
                <a:latin typeface="Calibri"/>
                <a:ea typeface="Calibri"/>
              </a:rPr>
              <a:t>1. Iodine de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. Absolute deficienc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 areas far from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. Relative deficienc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ue to increased demand for iodine at pregnancy, puberty and lac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75d1"/>
                </a:solidFill>
                <a:latin typeface="Calibri"/>
                <a:ea typeface="Calibri"/>
              </a:rPr>
              <a:t>2. Dyshormonogenesi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reditary 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eficiency  of enzymes necessary for thyroxin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75d1"/>
                </a:solidFill>
                <a:latin typeface="Calibri"/>
                <a:ea typeface="Calibri"/>
              </a:rPr>
              <a:t>3. Goitrogen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ll-known goitrogens as cabbage, cauliflower   which contain thiocyanate  which inhibits iodide transport within the thyr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HASHIMOTO THYROID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ccurs in middle &amp; old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on in females more than males (20: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use painless thyroid enlar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ociated with hypothyroid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Pathogenesis: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utoimmune disease in which the immune system reacts against a variety of thyroid antig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pictu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ymmetrically enlarged thyroid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irm inconsisten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act, non-adherent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ut surface is pale, homogenous and sometimes nod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171880" y="1852560"/>
            <a:ext cx="48006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000" y="404280"/>
            <a:ext cx="8434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nse inflammatory infiltrate formed of lymphocytes, plasma cells and macrophages, with sometimes lymphoid follicle 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me acini are atrophied and others show regenerative changes (lined by large cubical cells with deeply esinophilic granular cytoplasm termed (Hurthle cells). This is termed Hurthle cell metapl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nally, fibr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himoto thyroid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496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imoto thyroiditis; Hurthle cell meta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36000" cy="5467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imoto thyroiditis; Hurthle cell meta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Complic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ypothyroid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evelopment of other autoimmune dis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alignant transformation (lymph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Calibri"/>
              </a:rPr>
              <a:t>SUBACUTE GRANULOMATOUS THYROID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ccurs between 30-5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re common in females than males (5: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use painful thyroid enlar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ociated with transient hyperthyroid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Pathogenes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ociated with viral in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pictu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Unilateral or bilateral enlar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act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lightly adh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ut surface shows scattered firm yellowish white ar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Pathogenes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341360"/>
            <a:ext cx="8435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d2d8a"/>
                </a:solidFill>
                <a:uFillTx/>
                <a:latin typeface="Calibri"/>
                <a:ea typeface="Calibri"/>
              </a:rPr>
              <a:t>a. Parenchymatous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odine deficiency → decreased thyroid hormone synthesis → increases TSH secretion → thyroid glands hyperpl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acini are increased in number and lined by tall columnar cells and contain little collo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iodine deficiency is corrected after a short time, the acini return to the normal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3640" y="47592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utrophilic infiltration with variable destruction of the thyroid foll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ols of colloid surrounded by multinucleate giant cells, aggregations of lymphocytes, histiocytes and plasma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nally, fibrosis, chronic inflammatory cells replace the damaged f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ulomatous thyroid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5406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REIDEL’S THYROID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1341000"/>
            <a:ext cx="86421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are, of unknown cause. Affect both sexes eq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gland is hard in consistency and adherent to the surrounding structures (simulating malignanc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nse fibrous tissue replacing the thyroid tissue and penetrating the capsule to the surrounding neck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76280"/>
            <a:ext cx="8362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Calibri"/>
                <a:ea typeface="Calibri"/>
              </a:rPr>
              <a:t>b. Colloid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en iodine deficiency is corrected after a longer time → the acini are distended with colloid and lined by fla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Calibri"/>
                <a:ea typeface="Calibri"/>
              </a:rPr>
              <a:t>c. Nodular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peated cycles of iodine deficiency &amp; correction →nodular goiter in which the gland shows multiple nodules of parenchymatous goiter, colloid goiter and areas of fib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orphological featur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a. Parenchymatous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ymmetrical enlarg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irm in 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ut surface is grayish p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yperplastic acini lined by tall columnar cells and filled with scanty col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b. Colloid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ymmetrical enlarg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ft in 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ut surface is grayish brown in color and may shows cystic spaces filled with glistening colloid “honey comb appearanc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acini are distended with colloid and lined by fla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stroma is scan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8:14:09Z</dcterms:created>
  <dc:creator>Owner</dc:creator>
  <dc:description/>
  <dc:language>en-US</dc:language>
  <cp:lastModifiedBy>Abdulaty Shawky</cp:lastModifiedBy>
  <dcterms:modified xsi:type="dcterms:W3CDTF">2013-09-12T08:53:06Z</dcterms:modified>
  <cp:revision>150</cp:revision>
  <dc:subject/>
  <dc:title>GOI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00000000000010250500207f7000400038000</vt:lpwstr>
  </property>
</Properties>
</file>